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D38-B09A-444B-9B15-41B8F2B7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9FB-8579-4D6C-88E9-8F85A2A8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CF9-D9E4-4333-9E84-2E577B5F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952-7DEA-4200-B1D5-BAE71A41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BD6A-0C6B-42CA-BF98-A486D70C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99A8-AAC2-4359-BDC3-6132340A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A9C-E846-450F-BB23-9D375BA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EEF5-21EA-4E75-977D-BCAE1ED5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1001-B7AD-484E-A1AE-AAD38DE7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1177-F60F-478F-8B60-B5A107D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D7A9-62D6-4B9E-BFFF-7A63FF0C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E0B-6EDC-42B6-9D82-68E1ADAF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29AB-AF40-469E-9A01-8CD0B8D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8AA6-8106-4660-8EAA-85BAA4E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9B3F-4C4C-45D7-8C88-8951598A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46F-7208-47D8-AE84-EA1D2373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D739-2EDC-4AB5-AF64-96BEC85D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F30-C463-4A7B-8263-1924ADD1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F91-BE44-456C-8CF6-DE887848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519-DCAB-47CD-9B40-B5ACED47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C27-B360-4806-A436-B55B7869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EDA-CFA1-4929-9C84-F1B4298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DC5-88F7-4A61-857D-456844EF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CBD-E376-467D-B152-336C4BC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252E-5A4F-4C43-B268-1D59673F7A5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8731-EBA7-49C4-B0EE-052C9F212598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esson14   Dress and H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制作人：黄芳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　　　　　　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 Learn  the  words  and  expressions by  hear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   Finish  off  the  exercises  of  activity 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343400" y="1523880"/>
            <a:ext cx="2971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843440" cy="184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eaching aim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77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udy some new wo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ress  coat   hat  big  small  whose  too  s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Useful   ex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 is  it ?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  it  big or  smal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ose  hat /dress / coat is thi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t’s  too  small /big  for 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What  is  it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63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270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5445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41452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80000" y="1268280"/>
            <a:ext cx="2232000" cy="32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   big    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7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    small   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882800">
            <a:off x="6534360" y="-263160"/>
            <a:ext cx="1078200" cy="2413080"/>
          </a:xfrm>
          <a:prstGeom prst="cloudCallout">
            <a:avLst>
              <a:gd name="adj1" fmla="val -46254"/>
              <a:gd name="adj2" fmla="val 6987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s it  big or sm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56720" y="1989000"/>
            <a:ext cx="93636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se______is   this  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Ms.  Li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:  Whose   hat  is  this  ? Is  this  your  hat ,  Danny 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66ff66"/>
                </a:solidFill>
                <a:latin typeface="Tahoma"/>
              </a:rPr>
              <a:t>Dann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 No, Ms. Liu .  It’s  too big /small   for   me.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2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se  dress  is  this ?  Is this  you  dress ,  Danny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! It’s  too  small  for  me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Yes, Danny.  I  se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2521080" cy="220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Ⅰ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翻译下面短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件新毛衣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件旧衬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个大苹果　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条小裙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只红帽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19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new  sw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7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n  old  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997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big    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07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small    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</a:rPr>
              <a:t>a   red  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Ⅱ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做对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 a  dialogue  by  using  “hat  / dress / coat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 the  dialogue they  m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3:42:52Z</dcterms:created>
  <dc:creator>slq</dc:creator>
  <dc:description/>
  <dc:language>en-US</dc:language>
  <cp:lastModifiedBy>slq</cp:lastModifiedBy>
  <dcterms:modified xsi:type="dcterms:W3CDTF">2006-09-03T08:09:11Z</dcterms:modified>
  <cp:revision>2</cp:revision>
  <dc:subject/>
  <dc:title>Lesson14   Dress and Hat</dc:title>
</cp:coreProperties>
</file>